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F43-CCCE-4856-9CF0-922F3029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548-7883-42A2-BC96-C15DCF3A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557-4A32-4E18-B655-4204FA1E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907-871C-4DE5-8749-D8021B8F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A360-5FDB-4E42-B4AA-4026A37E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4A92-5B86-429F-AD4B-EA4F4468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E3E-9FA6-42E2-87E6-8D303B2E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BD93-01AE-4B96-8197-B4DBA584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0A64-D507-40DB-BA4B-FAAA4627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B1C0-4D19-46F2-99FA-0A47F72B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E639-A4D2-4A1A-B6ED-4DA825D9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DC3-D83B-405E-9418-A545FD99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238E-078E-4F2D-82AA-964A882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7E2D-8AF1-4C41-BA7E-A98A1736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46B0-92A0-4AA5-8B5D-A3BAA2D8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427B-18D9-43D1-9D0C-3DE4FF43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6A12-EE6A-4F56-922D-ED583099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BC84-9107-4EA8-B131-2391A736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B5803-CEB3-4776-83CF-CE6795D9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D9C9-27B0-4AB2-B43A-1C0E8C60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8645-1B03-4B18-908F-D5006188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6DD4-F9BD-4A29-8001-16847B9A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95C-D44B-40A3-9E59-DF34AB0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6174-35D0-4FAA-973A-3DBD8367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8CDF-1124-4DB6-B444-868FB7E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B2BA-BDDA-427A-A4E4-B7573E5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F326-E736-44B1-A8AD-22730EC7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CDFA-C018-434B-ABEB-9988184E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BC9D-D157-4A7F-96FC-F7CDEE0D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78C43-95AA-4DDA-A028-934D813E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9EED-D4A5-4D3E-971C-D1E3DFB9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40FBB-899F-42AB-AB9A-E6D60834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4699F-3EF7-4619-B030-7B77E8EA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13C-2708-4750-98E7-7B392710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03F8-AC08-4F05-9D34-266C73EB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B236-32D3-42A9-A456-1E87D70D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CA52-FCF2-4E47-8243-F56835BC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32C5-11AB-40C6-B215-51E0310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052D-DB0E-4100-801F-D73D42F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61A2-4A7A-4B31-B8F4-A69CFDB2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E730-03A2-4D0A-B2F7-6F37F97A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04EF-4E62-430B-AA63-83FD8BE5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1323A-0A6D-4C9C-A1FC-F0C6BEA0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354-93E3-4034-97E6-D16A1F96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140-01B4-4667-B103-DBB7080A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799-864D-42AD-A194-1BE78EB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0AE-8145-4B0F-8043-6F2805A2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BE0-8A3A-488C-99CC-C67DA6C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FCAE-22FA-4A52-8E1F-5CDEE3F539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38D4-DCDD-4219-AB9C-7DC3872F73C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8FC-C0D0-4EB4-BBED-D44374C74BD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E226-8A64-480C-BC78-BA170691D9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Review on Spreadsheet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Pivot table for the data so th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and automotive sales will be r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Max of Aug-08 for each Type and automotive s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675D-ECF1-4648-8CCF-1D6940E3AB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EB01-123D-4DEB-A3FE-C06767BD4B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85800" y="609480"/>
          <a:ext cx="6705720" cy="5567400"/>
        </p:xfrm>
        <a:graphic>
          <a:graphicData uri="http://schemas.openxmlformats.org/drawingml/2006/table">
            <a:tbl>
              <a:tblPr/>
              <a:tblGrid>
                <a:gridCol w="2276640"/>
                <a:gridCol w="3274920"/>
                <a:gridCol w="115416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 of Aug-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otive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k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V/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9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-duty Truc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2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ck/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8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ury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size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ck/SUV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Pivot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which variables are required to be in rows and which are required to be in colum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check the function required; e.g. max and 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 ask yourself if the answer is corre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C1BA-8757-4609-8F3C-0E73484E96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market share percentages for the top twenty vehicle sales in August 2008? Use a chart to display this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5E66-0199-42B5-835F-6C361130E7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Quiz 1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at least 5 minutes ear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your photo 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write your name and sign the handout she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turn back the handout at the end of the ex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ternet Browsing, chatting, or Cell Ph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will be through blackboa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C6C5-0409-4A37-A3D0-B8089473DE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 excel sheet from my webp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hybrid vehicle sales from January 2004 to May 20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boarder color to red and its width to 1.25 p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legend and gridlines from the ch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major vertical gridlines to the ch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color of the vertical and horizontal axis to 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5094-C345-488F-A807-E372F74E4CF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860-809C-496D-8D5A-F3130954FD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4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kup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dditional column “ rank” that comes from a lookup table to achieve the foll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30000, rank =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20000, rank = 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10000, rank = 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50000, rank = 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rank=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888E-2C60-408C-BC74-5534B56E85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4DA3-F844-47DF-A9D0-F77A494FFA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1960" y="1397160"/>
          <a:ext cx="1540080" cy="4897440"/>
        </p:xfrm>
        <a:graphic>
          <a:graphicData uri="http://schemas.openxmlformats.org/drawingml/2006/table">
            <a:tbl>
              <a:tblPr/>
              <a:tblGrid>
                <a:gridCol w="947880"/>
                <a:gridCol w="5922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Lookup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 lookup tables must be in an ascending  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absolute reference to fill out the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use $A$1:$A$5 Instead of A1:A5 for values that you don’t want its location to change in fill 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a value of 0 for rank E, so that any value from 0 to 500 will be 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, ask your self if the answer is correct or not for randomly selected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908B-BF1B-4323-9129-3B46D179E86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other column rank2 to calculate the same function in slide 5 using If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logical expression, true value, false valu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IF(A2&gt;200,”A”,IF(A2&gt;400,”B”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B8B2-5A3D-483F-828B-317E29F906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If-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quotes for string, e.g. “A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your brackets bala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commas or don’t add additional comm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, ask yourself if the answer is correct or not for randomly selected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&gt;= if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107-A8FE-4B6C-B2D5-987BBC2CBB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2-02T13:25:54Z</dcterms:modified>
  <cp:revision>121</cp:revision>
  <dc:subject/>
  <dc:title>CPSC 203</dc:title>
</cp:coreProperties>
</file>